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7.wmf" ContentType="image/x-wmf"/>
  <Override PartName="/ppt/media/image8.wmf" ContentType="image/x-wmf"/>
  <Override PartName="/ppt/media/gunshot.wav" ContentType="audio/x-wav"/>
  <Override PartName="/ppt/media/image3.png" ContentType="image/png"/>
  <Override PartName="/ppt/media/image11.wmf" ContentType="image/x-wmf"/>
  <Override PartName="/ppt/media/image7.wmf" ContentType="image/x-wmf"/>
  <Override PartName="/ppt/media/image12.png" ContentType="image/png"/>
  <Override PartName="/ppt/media/driveby.wav" ContentType="audio/x-wav"/>
  <Override PartName="/ppt/media/image19.png" ContentType="image/png"/>
  <Override PartName="/ppt/media/image18.wmf" ContentType="image/x-wmf"/>
  <Override PartName="/ppt/media/carbrake.wav" ContentType="audio/x-wav"/>
  <Override PartName="/ppt/media/image16.jpeg" ContentType="image/jpeg"/>
  <Override PartName="/ppt/media/image15.wmf" ContentType="image/x-wmf"/>
  <Override PartName="/ppt/media/image14.wmf" ContentType="image/x-wmf"/>
  <Override PartName="/ppt/media/image1.wmf" ContentType="image/x-wmf"/>
  <Override PartName="/ppt/media/whoosh.wav" ContentType="audio/x-wav"/>
  <Override PartName="/ppt/media/image13.wmf" ContentType="image/x-wmf"/>
  <Override PartName="/ppt/media/image2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B3587-DD4C-4A4F-AEC3-F1B433AD1144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E8288-5C5C-4FD8-844D-02DCB192DC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NOW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ESSON #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. Identify 3 major aerospace manufacturing companies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. Explain how a person such as your self can own part of an airline compan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NO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Identify 3 major aerospace manufacturing compani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Explain how a person such as your self can own part of an airline compan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Fixed w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 Seaplanes: (flying boats) uses floats or hulls in place of conventional landing gear to take off and land on water 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Landplanes: classified by location of wing, landing gear type etc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) Fixed wing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)  Seaplanes: (flying boats) uses floats or hulls in place of conventional landing gear to take off and land on water 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) Landplanes: classified by location of wing, landing gear type etc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Amphibians: can operate either on land or on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) Amphibians: can operate either on land or on wat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 Point: How are Aircraft Classifi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 (ACCOUNTABLE TALK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What are the 2 primary classes of aircraf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What are the 2 types of heavier than air aircraf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What are the 3 types of fixed wing aircraf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on #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tember 3, 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cus Point: How are Aircraft Classified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MMARY (ACCOUNTABLE TALK)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) What are the 2 primary classes of aircraft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) What are the 2 types of heavier than air aircraft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) What are the 3 types of fixed wing aircraft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esson #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ptember 3, 201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cus Point: How are Aircraft Classified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structional Objectives: (SWBAT)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) Explain the 2 primary classes of aircraf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) Discuss types of heavier than air aircraf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) Identify 2 types of fixed wing aircraft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esson # 2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9/3/2015 3:16 P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 Point: How are Aircraft Classifi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ructional Objectives: (SWBAT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Explain the 2 primary classes of aircraf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Discuss types of heavier than air aircraf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Identify 2 types of fixed wing aircraf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on # 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/3/2015 3:16 P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) What are the two primary classes of aircraft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Lighter-than ai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Heavier- than air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) What are the two primary classes of aircrafts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) Lighter-than air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) Heavier- than air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Lighter-than air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ogen was used (flammable ga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gas to keep it alo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tually slighter heavier helium (non flammable) was 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) Lighter-than air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ydrogen was used (flammable gas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ses gas to keep it alof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ventually slighter heavier helium (non flammable) was us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I) Lighter-than air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Non-rigid: “free balloon” or “hot air balloon”, has no internal or external framework. Has no steering mechanis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Rigid: blimp,  gas is contained in a fabric covered wooden or metal frame work. A gondola (control car)  is underneath which carries engines and personn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I) Lighter-than air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) Non-rigid: “free balloon” or “hot air balloon”, has no internal or external framework. Has no steering mechanism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) Rigid: blimp,  gas is contained in a fabric covered wooden or metal frame work. A gondola (control car)  is underneath which carries engines and personnel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The Hindenburg was a German Zeppelin, after a successful passenger flight began across the Atlantic caught fire while landing in New jersey in May 1937, killing 36 people and injuring man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te: The Hindenburg was a German Zeppelin, after a successful passenger flight began across the Atlantic caught fire while landing in New jersey in May 1937, killing 36 people and injuring man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Heavier-than air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other typ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) Heavier-than air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l other typ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II) Heavier-than ai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Rotary w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t is generated by moving blades overhead which act as “revolving wing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 Autogiro: non powered air driven blades. Forward flight is accomplished by use of a conventional engine and propeller. Forward motion caused free wheeling rotating blad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II) Heavier-than air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) Rotary wing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ft is generated by moving blades overhead which act as “revolving wings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)  Autogiro: non powered air driven blades. Forward flight is accomplished by use of a conventional engine and propeller. Forward motion caused free wheeling rotating blade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ed by rotating blad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des may be tilted in any direction to control flight pat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Helicopt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wered by rotating blad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lades may be tilted in any direction to control flight path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) Helicopter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3001-5B0D-43FE-B71C-E714C3EC6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177C-7E7E-4BD8-9406-F2D9F7F84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E504-7344-4AE6-BD60-EECBFD29B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D281-B564-4762-B5A3-33134A72F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13F62D-7DED-4EEC-8558-269D97F48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D255BC-F789-4206-A90C-C4FAB4267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2683C2-EC5E-4FD2-B317-21A01608D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5828B4-FE44-4FFD-9F63-4DF57E541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9CDA35-F1EC-47CF-BD91-4E7B84DCF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D9034D-7BF2-4FAB-A4B1-3D05782BF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D43FC1-DAF1-4358-AD4D-BED410408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94FB-814A-4B84-B18D-12BC4FF34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F1D6CF-CBD4-4F9F-A0A7-007AF7734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F00B64-CB28-413A-8B23-4C4C152E3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D4A773-F97F-4E22-8321-64ABA89C7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335D1A-3976-49AA-BF38-A3E8DA0D5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A464D0-B62C-4CA4-A526-9CB50ADEE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3289-D5FF-4CC3-93C7-C8D3F8175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0B1A-6FAE-4511-B39D-82D5205E3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8F4E-7180-4D90-8417-B6B85B8D3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84D3-B706-4E35-A3F2-6F09CF547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103C-6969-442B-B74E-F22856134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DC63-F264-4441-A73B-7994FA8D9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7296-02CD-4A99-BF4B-BF046CBA8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fld id="{14EB7117-F2C5-4570-8A8D-B32796C00615}" type="datetime13">
              <a:rPr b="0" lang="en-US" sz="1200" spc="-1" strike="noStrike">
                <a:solidFill>
                  <a:srgbClr val="000000"/>
                </a:solidFill>
                <a:latin typeface="Arial"/>
              </a:rPr>
              <a:t>09:08:2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741AD-1E31-4347-ADAA-91762FF66A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fld id="{3383869D-B078-47B4-BAFB-A34C3477CC27}" type="datetime13">
              <a:rPr b="0" lang="en-US" sz="1200" spc="-1" strike="noStrike">
                <a:solidFill>
                  <a:srgbClr val="ffffff"/>
                </a:solidFill>
                <a:latin typeface="Arial"/>
              </a:rPr>
              <a:t>09:08:2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9A758-5B7B-4C30-8BD6-AF89DEB2959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audio" Target="../media/carbrak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file:///tmp/home/.config/libreoffice/4/user/gallery/carbrake.wav" TargetMode="External"/><Relationship Id="rId3" Type="http://schemas.microsoft.com/office/2007/relationships/media" Target="file:///tmp/home/.config/libreoffice/4/user/gallery/carbrake.wav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audio" Target="../media/driveby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audio" Target="../media/gunshot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audio" Target="../media/driveby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-2743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e3e3ff"/>
                </a:solidFill>
                <a:latin typeface="Arial"/>
              </a:rPr>
              <a:t>DO NOW</a:t>
            </a:r>
            <a:r>
              <a:rPr b="0" lang="en-US" sz="32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40291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LESSON #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457200" y="1676520"/>
            <a:ext cx="6035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1. Identify 3 major aerospace manufacturing companie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228600" y="4191120"/>
            <a:ext cx="8229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2. Explain how a person such as your self can own part of an airline compan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9" descr="j0215086"/>
          <p:cNvPicPr/>
          <p:nvPr/>
        </p:nvPicPr>
        <p:blipFill>
          <a:blip r:embed="rId1"/>
          <a:stretch/>
        </p:blipFill>
        <p:spPr>
          <a:xfrm>
            <a:off x="7238880" y="609480"/>
            <a:ext cx="166068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3"/>
          <p:cNvSpPr/>
          <p:nvPr/>
        </p:nvSpPr>
        <p:spPr>
          <a:xfrm>
            <a:off x="228600" y="838080"/>
            <a:ext cx="717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)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Fixed wing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Picture 5" descr="1knejj1i[1]"/>
          <p:cNvPicPr/>
          <p:nvPr/>
        </p:nvPicPr>
        <p:blipFill>
          <a:blip r:embed="rId1"/>
          <a:stretch/>
        </p:blipFill>
        <p:spPr>
          <a:xfrm>
            <a:off x="5867280" y="228600"/>
            <a:ext cx="2721240" cy="152100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6"/>
          <p:cNvSpPr/>
          <p:nvPr/>
        </p:nvSpPr>
        <p:spPr>
          <a:xfrm>
            <a:off x="457200" y="1676520"/>
            <a:ext cx="8169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)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eaplanes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flying boats) uses floats or hulls in place of conventional landing gear to take off and land on water 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7"/>
          <p:cNvSpPr/>
          <p:nvPr/>
        </p:nvSpPr>
        <p:spPr>
          <a:xfrm>
            <a:off x="304920" y="3962520"/>
            <a:ext cx="7940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)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Landplanes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lassified by location of wing, landing gear type etc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4" descr="airplane-overall"/>
          <p:cNvPicPr/>
          <p:nvPr/>
        </p:nvPicPr>
        <p:blipFill>
          <a:blip r:embed="rId1"/>
          <a:stretch/>
        </p:blipFill>
        <p:spPr>
          <a:xfrm>
            <a:off x="304920" y="685800"/>
            <a:ext cx="85770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4"/>
          <p:cNvSpPr/>
          <p:nvPr/>
        </p:nvSpPr>
        <p:spPr>
          <a:xfrm>
            <a:off x="1050840" y="1692360"/>
            <a:ext cx="6797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)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Amphibian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can operate either on land or on wa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Picture 5" descr="qbti3oiv[1]"/>
          <p:cNvPicPr/>
          <p:nvPr/>
        </p:nvPicPr>
        <p:blipFill>
          <a:blip r:embed="rId1"/>
          <a:stretch/>
        </p:blipFill>
        <p:spPr>
          <a:xfrm>
            <a:off x="3048120" y="3809880"/>
            <a:ext cx="3805200" cy="21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0" y="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Focus Point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: How are Aircraft Classified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564480" y="1981080"/>
            <a:ext cx="419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 Black"/>
              </a:rPr>
              <a:t>SUMMARY (ACCOUNTABLE TALK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304920" y="2438280"/>
            <a:ext cx="603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) What are the 2 primary classes of aircraf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 Box 6"/>
          <p:cNvSpPr/>
          <p:nvPr/>
        </p:nvSpPr>
        <p:spPr>
          <a:xfrm>
            <a:off x="457200" y="380988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) What are the 2 types of heavier than air aircraf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7"/>
          <p:cNvSpPr/>
          <p:nvPr/>
        </p:nvSpPr>
        <p:spPr>
          <a:xfrm>
            <a:off x="457200" y="5410080"/>
            <a:ext cx="899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) What are the 3 types of fixed wing aircraf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8"/>
          <p:cNvSpPr/>
          <p:nvPr/>
        </p:nvSpPr>
        <p:spPr>
          <a:xfrm>
            <a:off x="6591960" y="685800"/>
            <a:ext cx="236916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Lesson #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FB7B5-EC9D-496F-A7F7-0BA27CAA71CD}" type="datetime3">
              <a:rPr b="1" lang="en-US" sz="2800" spc="-1" strike="noStrike">
                <a:solidFill>
                  <a:srgbClr val="ffff00"/>
                </a:solidFill>
                <a:latin typeface="Garamond"/>
              </a:rPr>
              <a:t>July 31, 2026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Picture 9" descr="gyzhx0v1[1]"/>
          <p:cNvPicPr/>
          <p:nvPr/>
        </p:nvPicPr>
        <p:blipFill>
          <a:blip r:embed="rId1"/>
          <a:stretch/>
        </p:blipFill>
        <p:spPr>
          <a:xfrm rot="492000">
            <a:off x="6171840" y="2141280"/>
            <a:ext cx="2514600" cy="1420560"/>
          </a:xfrm>
          <a:prstGeom prst="rect">
            <a:avLst/>
          </a:prstGeom>
          <a:ln w="0">
            <a:noFill/>
          </a:ln>
        </p:spPr>
      </p:pic>
      <p:pic>
        <p:nvPicPr>
          <p:cNvPr id="184" name="Track 17.wma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85" name="Track 1.wma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7" dur="235507" fill="hold"/>
                                        <p:tgtEl>
                                          <p:spTgt spid="1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236007"/>
                            </p:stCondLst>
                            <p:childTnLst>
                              <p:par>
                                <p:cTn id="2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0" dur="224350" fill="hold"/>
                                        <p:tgtEl>
                                          <p:spTgt spid="1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0" y="228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Focus Point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: How are Aircraft Classified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395640" y="1600200"/>
            <a:ext cx="420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 Black"/>
              </a:rPr>
              <a:t>Instructional Objectives: (SWBAT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533520" y="2286000"/>
            <a:ext cx="603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1) Explain the 2 primary classes of aircraf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380880" y="350532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2) Discuss types of heavier than air aircraf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152280" y="4952880"/>
            <a:ext cx="899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3) Identify 2 types of fixed wing aircraf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6094800" y="914400"/>
            <a:ext cx="256716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Lesson # 2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9CF41-31BE-49C6-9E84-7E22DD305345}" type="datetime">
              <a:rPr b="1" lang="en-US" sz="2800" spc="-1" strike="noStrike">
                <a:solidFill>
                  <a:srgbClr val="ffff00"/>
                </a:solidFill>
                <a:latin typeface="Garamond"/>
              </a:rPr>
              <a:t>07/31/26</a:t>
            </a:fld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 </a:t>
            </a:r>
            <a:fld id="{20B30AB2-1CBB-4399-8C65-578CF9778737}" type="datetime10">
              <a:rPr b="1" lang="en-US" sz="2800" spc="-1" strike="noStrike">
                <a:solidFill>
                  <a:srgbClr val="ffff00"/>
                </a:solidFill>
                <a:latin typeface="Garamond"/>
              </a:rPr>
              <a:t>09:08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11" descr="j0233070"/>
          <p:cNvPicPr/>
          <p:nvPr/>
        </p:nvPicPr>
        <p:blipFill>
          <a:blip r:embed="rId1"/>
          <a:stretch/>
        </p:blipFill>
        <p:spPr>
          <a:xfrm>
            <a:off x="6324480" y="2362320"/>
            <a:ext cx="1828800" cy="9172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272787" fill="hold"/>
                                        <p:tgtEl>
                                          <p:spTgt spid="1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42"/>
                </p:tgtEl>
              </p:cMediaNode>
            </p:audio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cc"/>
                </a:solidFill>
                <a:latin typeface="Arial"/>
              </a:rPr>
              <a:t>I) What are the two primary classes of aircrafts: 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) Lighter-than ai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Picture 11" descr="xu4r021a[1]"/>
          <p:cNvPicPr/>
          <p:nvPr/>
        </p:nvPicPr>
        <p:blipFill>
          <a:blip r:embed="rId1"/>
          <a:stretch/>
        </p:blipFill>
        <p:spPr>
          <a:xfrm rot="580800">
            <a:off x="5638680" y="4571640"/>
            <a:ext cx="2667240" cy="142560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7"/>
          <p:cNvSpPr/>
          <p:nvPr/>
        </p:nvSpPr>
        <p:spPr>
          <a:xfrm>
            <a:off x="516960" y="4130640"/>
            <a:ext cx="383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) Heavier- than air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Picture 13" descr="yk1os4jy[1]"/>
          <p:cNvPicPr/>
          <p:nvPr/>
        </p:nvPicPr>
        <p:blipFill>
          <a:blip r:embed="rId2"/>
          <a:stretch/>
        </p:blipFill>
        <p:spPr>
          <a:xfrm rot="615000">
            <a:off x="5334120" y="2057400"/>
            <a:ext cx="3047760" cy="9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)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Lighter-than air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457200" y="1905120"/>
            <a:ext cx="71787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ydrogen was used (flammable gas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s gas to keep it alo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ntually slighter heavier helium (non flammable) was us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7" descr="ofsryk1a[1]"/>
          <p:cNvPicPr/>
          <p:nvPr/>
        </p:nvPicPr>
        <p:blipFill>
          <a:blip r:embed="rId1"/>
          <a:stretch/>
        </p:blipFill>
        <p:spPr>
          <a:xfrm>
            <a:off x="6705720" y="2133720"/>
            <a:ext cx="1981080" cy="15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228600" y="-360"/>
            <a:ext cx="40384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cc"/>
                </a:solidFill>
                <a:latin typeface="Arial"/>
              </a:rPr>
              <a:t>II) </a:t>
            </a:r>
            <a:r>
              <a:rPr b="1" lang="en-US" sz="3200" spc="-1" strike="noStrike" u="sng">
                <a:solidFill>
                  <a:srgbClr val="00ffcc"/>
                </a:solidFill>
                <a:uFillTx/>
                <a:latin typeface="Arial"/>
              </a:rPr>
              <a:t>Lighter-than air:</a:t>
            </a:r>
            <a:r>
              <a:rPr b="1" lang="en-US" sz="2800" spc="-1" strike="noStrike" u="sng">
                <a:solidFill>
                  <a:srgbClr val="3399ff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Picture 3" descr="3wgveq1a[1]"/>
          <p:cNvPicPr/>
          <p:nvPr/>
        </p:nvPicPr>
        <p:blipFill>
          <a:blip r:embed="rId1"/>
          <a:stretch/>
        </p:blipFill>
        <p:spPr>
          <a:xfrm>
            <a:off x="7010280" y="5486400"/>
            <a:ext cx="1839960" cy="85392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4"/>
          <p:cNvSpPr/>
          <p:nvPr/>
        </p:nvSpPr>
        <p:spPr>
          <a:xfrm>
            <a:off x="228600" y="838080"/>
            <a:ext cx="71787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)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Non-rigid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“free balloon” or “hot air balloon”, has no internal or external framework. Has no steering mechanis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457200" y="3352680"/>
            <a:ext cx="77882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)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Rigid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blimp,  gas is contained in a fabric covered wooden or metal frame work. A gondola (control car)  is underneath which carries engines and personne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6" descr="4dx2hamv[1]"/>
          <p:cNvPicPr/>
          <p:nvPr/>
        </p:nvPicPr>
        <p:blipFill>
          <a:blip r:embed="rId2"/>
          <a:stretch/>
        </p:blipFill>
        <p:spPr>
          <a:xfrm>
            <a:off x="7543800" y="1295280"/>
            <a:ext cx="1116000" cy="18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e: The Hindenburg was a German Zeppelin, after a successful passenger flight began across the Atlantic caught fire while landing in New jersey in May 1937, killing 36 people and injuring man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path" presetID="1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36 0.08276 L 0.108 0.08276 L 0.072 0.16686 L 0.108 0.24962 L 0.036 0.24962 L 0 0.33372 L -0.036 0.24962 L -0.108 0.24962 L -0.072 0.16686 L -0.108 0.08276 L -0.036 0.08276 L 0 0 Z">
                                      <p:cBhvr>
                                        <p:cTn id="103" dur="2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762120" y="837720"/>
            <a:ext cx="40384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)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Heavier-than air: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380880" y="2971800"/>
            <a:ext cx="7178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other typ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Picture 14" descr="wghzham_[1]"/>
          <p:cNvPicPr/>
          <p:nvPr/>
        </p:nvPicPr>
        <p:blipFill>
          <a:blip r:embed="rId1"/>
          <a:stretch/>
        </p:blipFill>
        <p:spPr>
          <a:xfrm>
            <a:off x="4038480" y="3962520"/>
            <a:ext cx="3722760" cy="13255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5" descr="olzytqi0[1]"/>
          <p:cNvPicPr/>
          <p:nvPr/>
        </p:nvPicPr>
        <p:blipFill>
          <a:blip r:embed="rId2"/>
          <a:stretch/>
        </p:blipFill>
        <p:spPr>
          <a:xfrm>
            <a:off x="5638680" y="457200"/>
            <a:ext cx="2667240" cy="17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1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31" dur="200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228600" y="-360"/>
            <a:ext cx="40384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cc"/>
                </a:solidFill>
                <a:latin typeface="Arial"/>
              </a:rPr>
              <a:t>III) </a:t>
            </a:r>
            <a:r>
              <a:rPr b="1" lang="en-US" sz="3200" spc="-1" strike="noStrike" u="sng">
                <a:solidFill>
                  <a:srgbClr val="00ffcc"/>
                </a:solidFill>
                <a:uFillTx/>
                <a:latin typeface="Arial"/>
              </a:rPr>
              <a:t>Heavier-than air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228600" y="838080"/>
            <a:ext cx="717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)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Rotary wing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 Box 8"/>
          <p:cNvSpPr/>
          <p:nvPr/>
        </p:nvSpPr>
        <p:spPr>
          <a:xfrm>
            <a:off x="228600" y="1752480"/>
            <a:ext cx="7788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72"/>
              <a:buBlip>
                <a:blip r:embed="rId1"/>
              </a:buBlip>
              <a:tabLst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ft is generated by moving blades overhead which act as “revolving wings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Text Box 23"/>
          <p:cNvSpPr/>
          <p:nvPr/>
        </p:nvSpPr>
        <p:spPr>
          <a:xfrm>
            <a:off x="974880" y="3352680"/>
            <a:ext cx="81691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)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 Autogiro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non powered air driven blades. Forward flight is accomplished by use of a conventional engine and propeller. Forward motion caused free wheeling rotating blad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Picture 25" descr="ijtw4rnv[1]"/>
          <p:cNvPicPr/>
          <p:nvPr/>
        </p:nvPicPr>
        <p:blipFill>
          <a:blip r:embed="rId2"/>
          <a:stretch/>
        </p:blipFill>
        <p:spPr>
          <a:xfrm>
            <a:off x="5334120" y="533520"/>
            <a:ext cx="3378240" cy="101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wered by rotating blad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lades may be tilted in any direction to control flight path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1143360" y="436680"/>
            <a:ext cx="264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)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Helicopter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Picture 5" descr="pkyq2wy1[1]"/>
          <p:cNvPicPr/>
          <p:nvPr/>
        </p:nvPicPr>
        <p:blipFill>
          <a:blip r:embed="rId1"/>
          <a:stretch/>
        </p:blipFill>
        <p:spPr>
          <a:xfrm>
            <a:off x="2362320" y="3962520"/>
            <a:ext cx="6207120" cy="17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4T12:14:57Z</dcterms:created>
  <dc:creator>T1</dc:creator>
  <dc:description>aircraft classification</dc:description>
  <cp:keywords>aircraft classification</cp:keywords>
  <dc:language>en-US</dc:language>
  <cp:lastModifiedBy>RomaK</cp:lastModifiedBy>
  <dcterms:modified xsi:type="dcterms:W3CDTF">2015-09-03T12:17:28Z</dcterms:modified>
  <cp:revision>57</cp:revision>
  <dc:subject>aircraft classification</dc:subject>
  <dc:title>aircraft classification</dc:title>
</cp:coreProperties>
</file>